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3B58-67F8-4C16-B9D1-7C666EA1B0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A0AA-B075-4978-9C47-13E9EF397D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B45B-3626-4A7B-89A6-3DBA811C1E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BB1B-9F99-4441-85E8-C01970C70E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3E55-1712-4CD2-BBC2-05137A4F99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83FB-A504-4291-B906-2B6182711C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9CEC-D8AC-4F96-A7A2-4E0E93F332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BE06-C932-4923-905B-3FAAB929BD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385E-1EEB-4A5C-B164-F1004BD4D3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016E-8419-48A9-9CDC-89CA6BC4BA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5E34-62D2-43D2-A6B1-F5401ACB9A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479A-55A5-4C5B-A661-3C95B78E12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ivil Rights 1871–1914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6" descr="2669196"/>
          <p:cNvPicPr/>
          <p:nvPr/>
        </p:nvPicPr>
        <p:blipFill>
          <a:blip r:embed="rId1"/>
          <a:stretch/>
        </p:blipFill>
        <p:spPr>
          <a:xfrm>
            <a:off x="2590920" y="2666880"/>
            <a:ext cx="39621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1"/>
          <p:cNvSpPr/>
          <p:nvPr/>
        </p:nvSpPr>
        <p:spPr>
          <a:xfrm>
            <a:off x="685800" y="1600200"/>
            <a:ext cx="7772400" cy="403848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914400" y="2971800"/>
            <a:ext cx="746748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0" i="1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Plessy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v.</a:t>
            </a:r>
            <a:r>
              <a:rPr b="0" i="1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 Ferguson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 (1896) decision furthered discrimination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 the North as well as in the Sou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By 1910,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segregation was the norm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nationwid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ter 1914, even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federal offices were segregated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because of policies approved by President Woodrow Wilson, a Progress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43000" y="167652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acial theories were also used to justify laws that kept blacks from voting. Many Progressives supported racial prejudi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Straight Connector 7"/>
          <p:cNvSpPr/>
          <p:nvPr/>
        </p:nvSpPr>
        <p:spPr>
          <a:xfrm>
            <a:off x="990720" y="2895480"/>
            <a:ext cx="7162560" cy="1800"/>
          </a:xfrm>
          <a:prstGeom prst="line">
            <a:avLst/>
          </a:prstGeom>
          <a:ln w="1908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hsus_ch_017_s.3_booker_debois_dd.jpg"/>
          <p:cNvPicPr/>
          <p:nvPr/>
        </p:nvPicPr>
        <p:blipFill>
          <a:blip r:embed="rId1"/>
          <a:srcRect l="53151" t="0" r="0" b="0"/>
          <a:stretch/>
        </p:blipFill>
        <p:spPr>
          <a:xfrm>
            <a:off x="4343400" y="4175280"/>
            <a:ext cx="1276200" cy="222552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4"/>
          <p:cNvSpPr/>
          <p:nvPr/>
        </p:nvSpPr>
        <p:spPr>
          <a:xfrm flipH="1" rot="5400000">
            <a:off x="1180800" y="1866960"/>
            <a:ext cx="3200400" cy="3581280"/>
          </a:xfrm>
          <a:prstGeom prst="upArrowCallout">
            <a:avLst>
              <a:gd name="adj1" fmla="val 13418"/>
              <a:gd name="adj2" fmla="val 17500"/>
              <a:gd name="adj3" fmla="val 16956"/>
              <a:gd name="adj4" fmla="val 39628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1514520" y="1143000"/>
            <a:ext cx="614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frican Americans were split over how to end racial discrimination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200240" y="2243160"/>
            <a:ext cx="2514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Booker T. Washingt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urged a patient,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gradual effor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based on earning equality through training and work in the skilled trad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AutoShape 4"/>
          <p:cNvSpPr/>
          <p:nvPr/>
        </p:nvSpPr>
        <p:spPr>
          <a:xfrm flipH="1" rot="16200000">
            <a:off x="4742280" y="1942920"/>
            <a:ext cx="3200400" cy="3429000"/>
          </a:xfrm>
          <a:prstGeom prst="upArrowCallout">
            <a:avLst>
              <a:gd name="adj1" fmla="val 13418"/>
              <a:gd name="adj2" fmla="val 17500"/>
              <a:gd name="adj3" fmla="val 16954"/>
              <a:gd name="adj4" fmla="val 40276"/>
            </a:avLst>
          </a:prstGeom>
          <a:gradFill rotWithShape="0">
            <a:gsLst>
              <a:gs pos="0">
                <a:srgbClr val="ffc000">
                  <a:alpha val="50196"/>
                </a:srgbClr>
              </a:gs>
              <a:gs pos="100000">
                <a:srgbClr val="e8eae9"/>
              </a:gs>
            </a:gsLst>
            <a:lin ang="81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521320" y="2422440"/>
            <a:ext cx="2571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W.E.B. Du Bo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demanded that African Americans receive all constitutional rights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immediate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0"/>
          <p:cNvSpPr/>
          <p:nvPr/>
        </p:nvSpPr>
        <p:spPr>
          <a:xfrm flipH="1" rot="10800000">
            <a:off x="836640" y="1447920"/>
            <a:ext cx="7391520" cy="2286000"/>
          </a:xfrm>
          <a:prstGeom prst="upArrowCallout">
            <a:avLst>
              <a:gd name="adj1" fmla="val 42846"/>
              <a:gd name="adj2" fmla="val 42992"/>
              <a:gd name="adj3" fmla="val 27056"/>
              <a:gd name="adj4" fmla="val 77709"/>
            </a:avLst>
          </a:prstGeom>
          <a:gradFill rotWithShape="0">
            <a:gsLst>
              <a:gs pos="0">
                <a:srgbClr val="ffcc66">
                  <a:alpha val="97254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1295280" y="3747960"/>
            <a:ext cx="6477120" cy="21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ir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Niagara Mov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rejected the gradualist approach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stating that trade skills 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an create workers, but cannot make men.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y also believed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African Americans should learn how to think for themselves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rough the study of history, literature, and philosoph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143000" y="16002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05, Du Bois and William Monroe Trott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ere concerned that all across the South, black men could not vo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029200" y="1676520"/>
            <a:ext cx="3505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fter a 1908 riot against African Americans in Springfield, Illinois, a number of whit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Progressives joined together with the Niagara Movement to form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ational Association for the Advancement of Colored People (NAACP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990720" y="5181480"/>
            <a:ext cx="32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ACP protested against lynching law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8" descr="2669196"/>
          <p:cNvPicPr/>
          <p:nvPr/>
        </p:nvPicPr>
        <p:blipFill>
          <a:blip r:embed="rId1"/>
          <a:stretch/>
        </p:blipFill>
        <p:spPr>
          <a:xfrm>
            <a:off x="457200" y="1828800"/>
            <a:ext cx="4343400" cy="33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5238720" y="2057400"/>
            <a:ext cx="327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NAACP aimed to help African Americans become </a:t>
            </a:r>
            <a:r>
              <a:rPr b="0" lang="ja-JP" sz="2000" spc="-1" strike="noStrike">
                <a:solidFill>
                  <a:srgbClr val="0033cc"/>
                </a:solidFill>
                <a:latin typeface="Verdana"/>
                <a:ea typeface="Arial"/>
              </a:rPr>
              <a:t>“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physically free from peonage, mentally free from ignorance, politically free from disfranchisement, and socially free from insult.</a:t>
            </a:r>
            <a:r>
              <a:rPr b="0" lang="ja-JP" sz="2000" spc="-1" strike="noStrike">
                <a:solidFill>
                  <a:srgbClr val="0033cc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1035"/>
          <p:cNvSpPr/>
          <p:nvPr/>
        </p:nvSpPr>
        <p:spPr>
          <a:xfrm flipH="1" rot="5400000">
            <a:off x="1733400" y="685440"/>
            <a:ext cx="2438280" cy="4419360"/>
          </a:xfrm>
          <a:prstGeom prst="upArrowCallout">
            <a:avLst>
              <a:gd name="adj1" fmla="val 20835"/>
              <a:gd name="adj2" fmla="val 18875"/>
              <a:gd name="adj3" fmla="val 17621"/>
              <a:gd name="adj4" fmla="val 39313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971640" y="2209680"/>
            <a:ext cx="320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NAACP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as founded to deman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voting and civil rights for African Americans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844560" y="2133720"/>
            <a:ext cx="7453440" cy="365760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ffcc66">
                  <a:alpha val="66274"/>
                </a:srgbClr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828800" y="12952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NAACP attracted prominent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s to their caus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2209680"/>
          <a:ext cx="7315200" cy="3489480"/>
        </p:xfrm>
        <a:graphic>
          <a:graphicData uri="http://schemas.openxmlformats.org/drawingml/2006/table">
            <a:tbl>
              <a:tblPr/>
              <a:tblGrid>
                <a:gridCol w="3048120"/>
                <a:gridCol w="4267080"/>
              </a:tblGrid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Supporters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Their tactics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340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228600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Jane Add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228600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Ray Stannard 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228600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Florence Kel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228600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Ida B. W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228600" indent="-228600">
                        <a:lnSpc>
                          <a:spcPct val="100000"/>
                        </a:lnSpc>
                        <a:spcAft>
                          <a:spcPts val="200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used newspapers to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MS Pゴシック"/>
                        </a:rPr>
                        <a:t>publicize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MS Pゴシック"/>
                        </a:rPr>
                        <a:t>the horrors of race riot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MS Pゴシック"/>
                        </a:rPr>
                        <a:t>and lyn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228600" indent="-228600">
                        <a:lnSpc>
                          <a:spcPct val="100000"/>
                        </a:lnSpc>
                        <a:spcAft>
                          <a:spcPts val="200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used the courts to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MS Pゴシック"/>
                        </a:rPr>
                        <a:t>challenge unfair housing la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228600" indent="-228600">
                        <a:lnSpc>
                          <a:spcPct val="100000"/>
                        </a:lnSpc>
                        <a:spcAft>
                          <a:spcPts val="200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MS Pゴシック"/>
                        </a:rPr>
                        <a:t>promoted professional care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for African Americ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ounded Rectangle 4"/>
          <p:cNvSpPr/>
          <p:nvPr/>
        </p:nvSpPr>
        <p:spPr>
          <a:xfrm>
            <a:off x="1219320" y="1533600"/>
            <a:ext cx="6858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1508040" y="1609560"/>
            <a:ext cx="609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1,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Urban Leag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was formed to create a network of local clubs and churches to assist African Americans migrating to northern c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286000" y="3594240"/>
            <a:ext cx="4572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hile the NAACP focused on political justice, the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 Urban League helped the poor find jobs, housing, clothing, and schools for their childre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447920" y="2819520"/>
            <a:ext cx="6553080" cy="2666880"/>
          </a:xfrm>
          <a:prstGeom prst="rect">
            <a:avLst/>
          </a:prstGeom>
          <a:gradFill rotWithShape="0">
            <a:gsLst>
              <a:gs pos="0">
                <a:srgbClr val="c9c9ff"/>
              </a:gs>
              <a:gs pos="100000">
                <a:srgbClr val="e8eae9"/>
              </a:gs>
            </a:gsLst>
            <a:lin ang="1080000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554120" y="1295280"/>
            <a:ext cx="6141960" cy="1099440"/>
          </a:xfrm>
          <a:prstGeom prst="rect">
            <a:avLst/>
          </a:prstGeom>
          <a:solidFill>
            <a:srgbClr val="e8eae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Many ethnic groups formed self-help organizations to combat prejudice and protect their righ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05120" y="2913120"/>
          <a:ext cx="5867280" cy="2498760"/>
        </p:xfrm>
        <a:graphic>
          <a:graphicData uri="http://schemas.openxmlformats.org/drawingml/2006/table">
            <a:tbl>
              <a:tblPr/>
              <a:tblGrid>
                <a:gridCol w="2666880"/>
                <a:gridCol w="3200400"/>
              </a:tblGrid>
              <a:tr h="51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frican Americ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A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i B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xican Americ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ve Americ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ciety of American Indi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 rot="10800000">
            <a:off x="4724280" y="1447560"/>
            <a:ext cx="3657600" cy="373356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ffcc66">
                  <a:alpha val="75294"/>
                </a:srgbClr>
              </a:gs>
            </a:gsLst>
            <a:lin ang="27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8"/>
          <p:cNvSpPr/>
          <p:nvPr/>
        </p:nvSpPr>
        <p:spPr>
          <a:xfrm rot="10800000">
            <a:off x="837720" y="1447560"/>
            <a:ext cx="3581640" cy="3733560"/>
          </a:xfrm>
          <a:prstGeom prst="rect">
            <a:avLst/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27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914400" y="1828800"/>
            <a:ext cx="3352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184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Jewish families formed the B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nai B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ith to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provide religious education and supp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724280" y="1752480"/>
            <a:ext cx="358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191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 Anti-Defamation Leagu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as formed to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efend Jews and others against physical and verbal attacks, false statements, and to </a:t>
            </a:r>
            <a:r>
              <a:rPr b="0" lang="ja-JP" sz="2000" spc="-1" strike="noStrike">
                <a:solidFill>
                  <a:srgbClr val="0033cc"/>
                </a:solidFill>
                <a:latin typeface="Verdana"/>
                <a:ea typeface="Arial"/>
              </a:rPr>
              <a:t>“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secure justice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and fair treatment to 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all citizens alike.</a:t>
            </a:r>
            <a:r>
              <a:rPr b="0" lang="ja-JP" sz="2000" spc="-1" strike="noStrike">
                <a:solidFill>
                  <a:srgbClr val="0033cc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ounded Rectangle 8"/>
          <p:cNvSpPr/>
          <p:nvPr/>
        </p:nvSpPr>
        <p:spPr>
          <a:xfrm>
            <a:off x="1219320" y="1447920"/>
            <a:ext cx="685800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1554120" y="1482840"/>
            <a:ext cx="601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Mexican Americans</a:t>
            </a:r>
            <a:r>
              <a:rPr b="0" lang="en-US" sz="22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form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mutualistas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groups that provided legal assistanc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d insura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209680" y="2981160"/>
            <a:ext cx="51818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Partido Liberal Mexicano (PLM) in Arizona served Mexican Americans in the same way the Urban League helped African America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Many Latinos were subject to unfair labor contrac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which the mutualistas helped to defe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455760" y="137016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135080" y="2133720"/>
            <a:ext cx="6873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1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Progressives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titudes toward minority righ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why African Americans organiz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ine the strategies used by members of other minority groups to defend their righ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ounded Rectangle 4"/>
          <p:cNvSpPr/>
          <p:nvPr/>
        </p:nvSpPr>
        <p:spPr>
          <a:xfrm>
            <a:off x="914400" y="1143000"/>
            <a:ext cx="723888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9"/>
          <p:cNvSpPr/>
          <p:nvPr/>
        </p:nvSpPr>
        <p:spPr>
          <a:xfrm rot="10800000">
            <a:off x="4723920" y="2361960"/>
            <a:ext cx="3429000" cy="373356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ffcc66">
                  <a:alpha val="75294"/>
                </a:srgbClr>
              </a:gs>
            </a:gsLst>
            <a:lin ang="27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8"/>
          <p:cNvSpPr/>
          <p:nvPr/>
        </p:nvSpPr>
        <p:spPr>
          <a:xfrm rot="10800000">
            <a:off x="990360" y="2361960"/>
            <a:ext cx="3429000" cy="3733560"/>
          </a:xfrm>
          <a:prstGeom prst="rect">
            <a:avLst/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27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98"/>
          <p:cNvSpPr/>
          <p:nvPr/>
        </p:nvSpPr>
        <p:spPr>
          <a:xfrm>
            <a:off x="1219320" y="2514600"/>
            <a:ext cx="304776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In 1911, Carlos Montezuma helped form the Society of American Indians to protest federal polic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evertheless, by 1932,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  <a:ea typeface="Arial"/>
              </a:rPr>
              <a:t>two thirds of all tribal lands had been sold of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914400" y="12636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Despite organized protests, Native American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d Japanese lost their ownership of lan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5029200" y="2500200"/>
            <a:ext cx="289548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In 1913, California restricted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  <a:ea typeface="Arial"/>
              </a:rPr>
              <a:t>land ownership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o American citizens only, which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  <a:ea typeface="Arial"/>
              </a:rPr>
              <a:t>excluded the Japanese, who were not allowed to become citize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In a 1922 decision, the Supreme Court allowed the limit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5760" y="137016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990720" y="2057400"/>
            <a:ext cx="761976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Americaniza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belief that assimilating immigrants into American society would make them more loyal citize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Booker T. Washingt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favored a gradualist approach for blacks to earn rights through economic progress and employment in the    skilled trad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W.E.B. Du Boi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demanded immediate and full rights for blacks as guaranteed by the Constit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7200" y="13701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990720" y="2057400"/>
            <a:ext cx="761976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iagara Movemen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roup of African American thinkers founded in 1905 that pushed for immediate racial refor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ational Association for the Advancement of Colored People (NAACP)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interracial organization founded in 1909 to abolish segregation and discrimination and achieve political rights for African America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Urban Leagu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organization to assist       working class African Americans with relief, jobs, clothing, and sch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3"/>
          <p:cNvSpPr/>
          <p:nvPr/>
        </p:nvSpPr>
        <p:spPr>
          <a:xfrm>
            <a:off x="990720" y="2057400"/>
            <a:ext cx="7619760" cy="33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Anti-Defamation Leagu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organization whose goal is to defend Jews and others from false statements and verbal or physical attack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mutualista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Mexican American groups that provided loans, legal assistance, and disability insurance for memb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57200" y="13701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2"/>
          <p:cNvSpPr/>
          <p:nvPr/>
        </p:nvSpPr>
        <p:spPr>
          <a:xfrm>
            <a:off x="1523880" y="2819520"/>
            <a:ext cx="6324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ejudice and discrimination continued even during the Progressive Era. Minorities, including African Americans, Latinos, Catholics, Jews, and Native Americans, worked to help themselv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ir efforts paved the way for the era of civil rights several decades la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1482840" y="167652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hat steps did minorities take to combat social problems and discrimination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7" descr="HSUS09_EQ_logoSmall"/>
          <p:cNvPicPr/>
          <p:nvPr/>
        </p:nvPicPr>
        <p:blipFill>
          <a:blip r:embed="rId1"/>
          <a:stretch/>
        </p:blipFill>
        <p:spPr>
          <a:xfrm>
            <a:off x="736560" y="175248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257800" y="3657600"/>
            <a:ext cx="2895480" cy="2057400"/>
          </a:xfrm>
          <a:prstGeom prst="rect">
            <a:avLst/>
          </a:prstGeom>
          <a:gradFill rotWithShape="0">
            <a:gsLst>
              <a:gs pos="0">
                <a:srgbClr val="ffcc66">
                  <a:alpha val="75294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utoShape 5"/>
          <p:cNvSpPr/>
          <p:nvPr/>
        </p:nvSpPr>
        <p:spPr>
          <a:xfrm flipH="1" rot="5400000">
            <a:off x="2208960" y="2514240"/>
            <a:ext cx="2057400" cy="4343400"/>
          </a:xfrm>
          <a:prstGeom prst="upArrowCallout">
            <a:avLst>
              <a:gd name="adj1" fmla="val 19817"/>
              <a:gd name="adj2" fmla="val 20972"/>
              <a:gd name="adj3" fmla="val 30122"/>
              <a:gd name="adj4" fmla="val 36979"/>
            </a:avLst>
          </a:prstGeom>
          <a:gradFill rotWithShape="0">
            <a:gsLst>
              <a:gs pos="0">
                <a:srgbClr val="83d7e5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AutoShape 6"/>
          <p:cNvSpPr/>
          <p:nvPr/>
        </p:nvSpPr>
        <p:spPr>
          <a:xfrm flipH="1" rot="10792800">
            <a:off x="1069200" y="1447920"/>
            <a:ext cx="5154840" cy="2286000"/>
          </a:xfrm>
          <a:prstGeom prst="upArrowCallout">
            <a:avLst>
              <a:gd name="adj1" fmla="val 25851"/>
              <a:gd name="adj2" fmla="val 23938"/>
              <a:gd name="adj3" fmla="val 24505"/>
              <a:gd name="adj4" fmla="val 62345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334120" y="4648320"/>
            <a:ext cx="2743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1295280" y="1523880"/>
            <a:ext cx="4724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ost Progressives were white, middle-class Protestants who held the racial and ethnic prejudices common in that e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1295280" y="3854520"/>
            <a:ext cx="32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y envisioned a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model America based on Protestant ethic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nd a white middle-class lifesty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486400" y="3854520"/>
            <a:ext cx="2514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s a result, they were often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hostile to minority or immigrant cultures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6"/>
          <p:cNvSpPr/>
          <p:nvPr/>
        </p:nvSpPr>
        <p:spPr>
          <a:xfrm flipH="1" rot="10792800">
            <a:off x="762840" y="1050480"/>
            <a:ext cx="7391520" cy="1844640"/>
          </a:xfrm>
          <a:prstGeom prst="upArrowCallout">
            <a:avLst>
              <a:gd name="adj1" fmla="val 45751"/>
              <a:gd name="adj2" fmla="val 42371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859040" y="111924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gressives believed </a:t>
            </a:r>
            <a:r>
              <a:rPr b="1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assimilatio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would turn immigrants into loyal and moral citize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1143000" y="3048120"/>
            <a:ext cx="6781680" cy="29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results were well-intentioned, but were often insensitiv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efforts to change the immigra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hile teaching English to immigrants, the Progressives also advised them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to replace their customs with middle-class practices and Protestant val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ettlement houses and other civic groups played a prominent role in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Americanizatio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effor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29"/>
          <p:cNvSpPr/>
          <p:nvPr/>
        </p:nvSpPr>
        <p:spPr>
          <a:xfrm>
            <a:off x="5334120" y="2668680"/>
            <a:ext cx="297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is prejudice against immigrant customs and culture gave strength to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emperance mov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266840" y="15238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s saw many immigrant customs as moral failur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AutoShape 1035"/>
          <p:cNvSpPr/>
          <p:nvPr/>
        </p:nvSpPr>
        <p:spPr>
          <a:xfrm flipH="1" rot="5400000">
            <a:off x="1865880" y="1942920"/>
            <a:ext cx="2895840" cy="3886200"/>
          </a:xfrm>
          <a:prstGeom prst="upArrowCallout">
            <a:avLst>
              <a:gd name="adj1" fmla="val 26067"/>
              <a:gd name="adj2" fmla="val 18875"/>
              <a:gd name="adj3" fmla="val 17620"/>
              <a:gd name="adj4" fmla="val 45268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523880" y="2957400"/>
            <a:ext cx="2819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Immigrants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 use of alcohol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such as serving wine with meals, alarmed some peopl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5:26:32Z</dcterms:created>
  <dc:creator>Sam Lewbel</dc:creator>
  <dc:description/>
  <dc:language>en-US</dc:language>
  <cp:lastModifiedBy>Mark Scacewater</cp:lastModifiedBy>
  <cp:lastPrinted>2008-05-21T18:42:16Z</cp:lastPrinted>
  <dcterms:modified xsi:type="dcterms:W3CDTF">2012-09-30T20:33:48Z</dcterms:modified>
  <cp:revision>1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